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64B-DFF4-4836-97AC-64A93944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869-7AD5-4C3C-B087-7F49D96A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E9C-6FF5-4380-9860-EFE88C68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2F3-3D45-4089-A750-A1766E91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F98-89B0-48D5-9120-B2A6268D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BA6-F2C1-4917-867E-0538B99D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A72-0B1F-49A0-828C-92F416DD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B73-C073-493B-8BA6-424AD946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129-18D9-4C6D-82DA-47B2337A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165-6D88-45A3-B920-47F30A2B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959-7A73-4013-8322-8DF8DCE2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80B-6F44-4BD9-A239-54AADD3B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1534-A4AE-43A2-99C8-EF6CC6608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re was an Old Lad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2773440"/>
            <a:ext cx="4419720" cy="353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131920"/>
            <a:ext cx="5410080" cy="433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n old lady who swallowed a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hild’s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09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5880" y="1905120"/>
            <a:ext cx="2470320" cy="177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24480" y="3505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Insert child’s pictu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know why she swallowed a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hild’s Name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me, oh 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1969920" cy="477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371600" y="1066680"/>
            <a:ext cx="61722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2:28:08Z</dcterms:created>
  <dc:creator>Patti J. Porto</dc:creator>
  <dc:description/>
  <dc:language>en-US</dc:language>
  <cp:lastModifiedBy>Patti Porto</cp:lastModifiedBy>
  <dcterms:modified xsi:type="dcterms:W3CDTF">2008-01-24T15:32:25Z</dcterms:modified>
  <cp:revision>26</cp:revision>
  <dc:subject/>
  <dc:title>Slide 1</dc:title>
</cp:coreProperties>
</file>